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14.jpeg" ContentType="image/jpeg"/>
  <Override PartName="/ppt/media/image6.jpeg" ContentType="image/jpeg"/>
  <Override PartName="/ppt/media/image50.jpeg" ContentType="image/jpeg"/>
  <Override PartName="/ppt/media/image37.jpeg" ContentType="image/jpeg"/>
  <Override PartName="/ppt/media/image67.png" ContentType="image/pn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15.jpeg" ContentType="image/jpeg"/>
  <Override PartName="/ppt/media/image18.jpeg" ContentType="image/jpeg"/>
  <Override PartName="/ppt/media/image19.wmf" ContentType="image/x-wmf"/>
  <Override PartName="/ppt/media/image66.jpeg" ContentType="image/jpeg"/>
  <Override PartName="/ppt/media/image9.jpeg" ContentType="image/jpeg"/>
  <Override PartName="/ppt/media/image21.jpeg" ContentType="image/jpeg"/>
  <Override PartName="/ppt/media/image29.png" ContentType="image/png"/>
  <Override PartName="/ppt/media/image64.jpeg" ContentType="image/jpe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3.png" ContentType="image/png"/>
  <Override PartName="/ppt/media/image16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2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.jpeg" ContentType="image/jpeg"/>
  <Override PartName="/ppt/media/image41.png" ContentType="image/png"/>
  <Override PartName="/ppt/media/image45.jpeg" ContentType="image/jpeg"/>
  <Override PartName="/ppt/media/image46.png" ContentType="image/png"/>
  <Override PartName="/ppt/media/image68.png" ContentType="image/pn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65FE-3C00-4A86-B4CF-A84A0F7C4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74D7-8AE8-4963-9971-CA59430D9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0964-716E-466D-A3F0-FFC8E7D4A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F3E1-5D94-4E29-A12A-8164A1722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AB97-2E09-46CF-A0BB-696F00E2C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4DCC-0E7A-41F3-8E78-5132A4FA90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2B05-EEB9-4C8B-A4A6-2D5162E590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BFEF-4DCE-450E-A8AC-4C8FB24D63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13CD-E141-4D3B-85CD-E6AAC84A3C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3EB0-D3D1-4B17-8B7F-67CE1953D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176C-9C1A-4392-83C9-1C0F275F5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8133-DE03-4D4E-B534-B5BBA16AC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C5C5-36C6-4A06-8599-81D528E000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9C7C-F537-46BC-9A0B-4C205197E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6C6B-E89A-4CBE-AD76-D17D9CDF0E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279D-2ECA-477D-A474-6951F9E9EA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0CBD-D483-458A-967F-80F367A4E5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169-789D-4E88-AEE3-D9F0F76E2F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E4B-2291-4B0D-8184-14CBE2C080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6B3-6D80-4596-A6FA-71213E65CE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10A-C212-4A99-A0C2-50B322F3E3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5F3-0B80-4C09-9AB5-068EF8FA9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3682-2FAA-4EA0-8F3A-3595E8A480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339-A964-409E-8E31-79D9CDD5A3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D7D-56DA-49B4-AC2B-6038BE1F3D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73F-F7B7-49B3-9629-BCDBF883B9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6AF-DC35-485C-BA4D-0DC58817FA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1F9-BF13-401F-9978-FEB3360038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F34-6A2D-4659-ABB6-968145078B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D52-83DB-400E-A555-C726BFD927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18D9-CB6D-4EEC-BBB9-C8092A4A01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12F1F-4740-4A52-AE8A-4653AE15EB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69A74-EAA6-47AD-B35B-52AC6B05D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F9AF-7897-4BBD-8BFD-C57D5E2DD6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57514-0F0B-4203-B4B4-0F9DDA7328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B935D-CE62-4C40-994F-C00EB94DA2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CFA96-F329-45C7-8C5D-65B910BB24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22F17-CA3C-4149-8F97-055103C402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B939-B601-47D0-ADFB-2B4B2DE6EE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25B7A-3078-4745-801F-C004EAF455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0FC54-7CE7-4350-BB42-494A418B1B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82E49-4016-47ED-AD51-B571272DFC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E34D0-5980-4D65-AA83-18C399902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F97D-2F8E-4570-98E2-A00187351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B269-046C-477A-97E8-07B22D09D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AE20-FB35-4689-B92C-1E19C5FC5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FE2C-507C-4567-AF67-3D6B28BC3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5D50-8CCD-400F-8835-06A6EB4A3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733B6-6C60-4421-AEA1-460351BE4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809E1-2CA8-4179-BBDD-14CA17F1078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25078-E70F-410C-8375-D9CC8A8AB9BF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E313D-61C6-4844-B8A0-80D2B29FDB36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DAN MUSE, M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BLUNT THORACIC AND 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7162920" y="4838760"/>
            <a:ext cx="75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Classified as a supraglottic tube or one that is above the vocal 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llows for a blind insertion and secure the airway so that the person can receive oxygen and be ventilated (exchange oxygen for carbon dioxid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sertion only takes seconds and virtually fail sa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KING TUBE VIDE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BELokurs5f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3" name="Tips from Tom_ King LTS-D Detailed Overview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RACHEOS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77840" y="1628640"/>
            <a:ext cx="382572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2"/>
          <a:stretch/>
        </p:blipFill>
        <p:spPr>
          <a:xfrm>
            <a:off x="5154480" y="3978360"/>
            <a:ext cx="38228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77840" y="1587600"/>
            <a:ext cx="3784680" cy="4583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4705200" y="3112920"/>
            <a:ext cx="42721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</a:t>
            </a: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400"/>
            </a:b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https://www.youtube.com/watch?v=NmHxhpMfD4c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7" name="TEST VIDEO - Cricothyrotomy Landmarks.mp4" descr=""/>
          <p:cNvPicPr/>
          <p:nvPr/>
        </p:nvPicPr>
        <p:blipFill>
          <a:blip r:embed="rId1"/>
          <a:stretch/>
        </p:blipFill>
        <p:spPr>
          <a:xfrm>
            <a:off x="1892160" y="1719360"/>
            <a:ext cx="5381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https://www.youtube.com/watch?v=aPiQA2XKkc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9" name="Needle Cricothyrotomy.mp4" descr=""/>
          <p:cNvPicPr/>
          <p:nvPr/>
        </p:nvPicPr>
        <p:blipFill>
          <a:blip r:embed="rId1"/>
          <a:stretch/>
        </p:blipFill>
        <p:spPr>
          <a:xfrm>
            <a:off x="1628640" y="1719360"/>
            <a:ext cx="59086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1368360" y="280656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HORACO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731880" y="2925720"/>
            <a:ext cx="6324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TOR VEHICLE COLLISIONS THE MAJOR CAUSE OF BLUNT THORACIC INJ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301680" y="152712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5129280" y="1527120"/>
            <a:ext cx="3720960" cy="218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3"/>
          <a:stretch/>
        </p:blipFill>
        <p:spPr>
          <a:xfrm>
            <a:off x="2828880" y="40845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o the chest and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suspected tension pneumothor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co9_RLN78I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0" name="Tension Pneumothorax and Needle Thoracostomy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UvHJ4pjNh2Q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2" name="How To_ Needle Decompression of the Chest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CONDARY IF TIME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 WASTE TIM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-threatening hemorrhage (direct pressure, tournique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Ensure cervical spine stabilization*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Determine presence or absence of significant neurologic signs and symptoms:  decreased motor function, decreased sensory function, priapism, and loss of bladder/bow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</a:t>
            </a:r>
            <a:r>
              <a:rPr b="1" lang="en-US" sz="2400" spc="-1" strike="noStrike">
                <a:solidFill>
                  <a:srgbClr val="ff3333"/>
                </a:solidFill>
                <a:latin typeface="Franklin Gothic Medium"/>
              </a:rPr>
              <a:t>Long backboards are NOT considered standard of care in most cases of potential spinal injury. </a:t>
            </a: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Instead, use spinal motion restriction with a cervical collar and cot in most cases. Note that there are exceptions, such as a patient with a potential spinal injury who cannot be log-rolled while being transported and may be at risk of a compromised air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Spinal Immobiliz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. Establish manual c-spine stabilization in the position that the patient is f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2. Assess for correct size and properly apply a cervical c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3. Move patient from the position found to the location of the ambulance stretcher utilizing a device such as a scoop stretcher, long spine board, or if necessary, by having the patient stand and pivot to the stretcher. DO NOT permit the patient to struggle to their feet from a supine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4. Position patient on the ambulance stretc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5. Remove scoop or log roll patient off long spine board or other device (if such device was utiliz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6. A blanket roll or blocks and tape attached to the stretcher may be used to minimize lateral movement of head during trans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7. Once on the ambulance stretcher, instruct patient to lie sti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8. The head of the stretcher may be elevated 20-30 degrees in a position of comf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9. Secure cross stretcher straps and over-the-shoulder belts firm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0. Utilize a SLIDE BOARD at the destination to move the patient smoothly to the hospital stretc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1. Ensure appropriate documentation of procedure in patient car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ACTORS ASSOCIATED WITH SIGNIFICANT INJU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tensive vehicula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lective Spinal Immobilization Procedu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MEDICAL CONTROL O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distracting inju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change in mental status; head trauma, metabolic, drugs/alcoh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rmal neurologic ex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neck pain or tender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 over 65 years 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3333"/>
                </a:solidFill>
                <a:latin typeface="Franklin Gothic Medium"/>
              </a:rPr>
              <a:t>ONLY THEN CAN YOU CLEAR THE CERVICAL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utine Pati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· Provide appropriate management for identified thoracic inju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PEN PNEUMOTHORA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mmediately apply an occlusive dressing sealing 3 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nitor patient closely for evidence of tension pneumothor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274680" y="1811160"/>
            <a:ext cx="84074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ENSION PNEUMOTHORAX: (Respiratory distress or apnea, Difficult to ventilate with bag, distended neck veins, unilateral decreased or absent breath sounds, tracheal deviation away from the side without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und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f present following closure of open pneumothorax, release occlusive dressing tempora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LAIL CHEST: (paradoxical movement of portion of chest w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osition patient with injured side down, unless contra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rovide manual stabilization of the flail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NOTE: Assisted positive pressure ventilations using a BVM device may be indicated and may also serve as an “internal splinting” of the flail segment due to lung expan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 threatening hemorrhage (direct pressure,tourniquets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Impaled Objects:  Secure in place with a bulky dres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Open chest wound:  Cover with an occlusive dressing, sealed on 3 sides, or use a commercial device; if the patient’s condition deteriorates, remove the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omentarily, then reapp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Flail segment with paradoxical movement and in respiratory distress:  Consider positive-pressure ventilation.  Do not splint the che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EMT-INTERMEDIATE / ADVANCED EMT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Provide advanced airway management only if patient is not adequately oxygenating or ventilating and not corrected by BV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ARAMEDIC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Needle chest decompression if indicated (2nd intercostal space, midclavicular line with at least 3.25 inch, 14g angioca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WO LARGE BORE IV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IN TRAUMA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GGRESSIVE FLUID RESUSCITATION PUSHING FOR NORMAL BP IS CONTROVER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RE IS THE THOUGHT THAT THIS CAN CAUSE CONTINUED BLEEDING, DILUTION OF BLOOD AND THE POSSIBILITY OF DISRUPTING CLOTS THAT ALREADY HAVE FO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EAN ARTERIAL PRESSURE (M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YSTOLIC + (2 X DIASTOLIC) /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Eg: 120 + (2 X 80) EQUALS 280/3 =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ＭＳ Ｐゴシック"/>
              </a:rPr>
              <a:t>MAP OF 65 OR GREATER EQUALS CEREBRAL PER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OINT OF ENT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llow the state protocols for the appropriate destination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gion 5 has only one level 3 trauma center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at is not the highest level center and “real” trauma should head to Region 4 level one trauma centers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3"/>
          <p:cNvSpPr/>
          <p:nvPr/>
        </p:nvSpPr>
        <p:spPr>
          <a:xfrm>
            <a:off x="457200" y="2666880"/>
            <a:ext cx="48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Mechanism-of -Injury Criteri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s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Adults &gt; 20 feet (one story is equal to 10 fe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Children &gt; 10 feet or two or three times the height of the chil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Risk auto crashe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Death in same passenger compart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Intrusion &gt; 12 inches occupant site, &gt;18 inches any site •Ejection (partial or complete) from vehic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Vehicle telemetry data consistent with high risk of inju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 vs. pedestrian/bicycle thrown/run over or with significant (&gt;20 mph) impact •Motorcycle crash &gt; 20 mp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4"/>
          <p:cNvSpPr/>
          <p:nvPr/>
        </p:nvSpPr>
        <p:spPr>
          <a:xfrm>
            <a:off x="6858000" y="3200400"/>
            <a:ext cx="1676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to closest appropriate Trauma Center** which may not be the highest level Trauma Center**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ight Arrow 5"/>
          <p:cNvSpPr/>
          <p:nvPr/>
        </p:nvSpPr>
        <p:spPr>
          <a:xfrm>
            <a:off x="5562720" y="3581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5783400" y="32385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685800" y="914400"/>
            <a:ext cx="76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WIDE TREATMENT POINT OF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ULTIPLE STRUCTURES ARE AT RI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s and other boney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ardiovascular; heart, aorta, major arteries    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ulmonary structures; lungs, trachea, bronchial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aphra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26960" y="1752480"/>
            <a:ext cx="339084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5300640" y="1739880"/>
            <a:ext cx="3657600" cy="222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722680" y="3629160"/>
            <a:ext cx="4222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683240" y="3139920"/>
            <a:ext cx="425448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230040" y="1905120"/>
            <a:ext cx="3945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60880" y="1550880"/>
            <a:ext cx="3997440" cy="365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39560" y="1693800"/>
            <a:ext cx="3691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82480" y="2179800"/>
            <a:ext cx="3264120" cy="2489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396040" y="2550960"/>
            <a:ext cx="358128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ade up of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Sternu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ribs, scapula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intercostal nerves and arteri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The chest w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on the inside, is lined with pleur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and on the outside muscle and sk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122480" y="396720"/>
            <a:ext cx="6350040" cy="590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er the potential for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Primary function in trauma is protection of the organs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arely are isolated chest wall injuries life threat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times associated with corresponding trauma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Lac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RA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olated rib fractures: may result in pain or secondary inju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 fractures are capable  of acting like a knife and stabbing the structures in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lail chest: three or more ribs which are broken in two places.  The segment will cause a paradoxical chest wal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006560" y="274680"/>
            <a:ext cx="7223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182520" y="126684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3271680" y="3535200"/>
            <a:ext cx="5591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974880" y="274680"/>
            <a:ext cx="725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948200" y="13176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4"/>
          <a:stretch/>
        </p:blipFill>
        <p:spPr>
          <a:xfrm>
            <a:off x="488880" y="3278160"/>
            <a:ext cx="4122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when air is displaced within the pleural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chest wall trauma and rib fra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is a tough material that comes in two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inside sheet covers the lu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outside sheet runs over the inside of the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reduces friction when the lungs expand and collap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ecause there is two parts to it, THERE IS ALSO A POTENT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ir and blood can get trapped in thi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o a rib breaks</a:t>
            </a: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….there is a stabbing or a shooting, or a be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Now there is potential for air or blood to get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301680" y="1628640"/>
            <a:ext cx="445140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511960" y="3718080"/>
            <a:ext cx="3632040" cy="2234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3444840" y="4673520"/>
            <a:ext cx="306396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4"/>
          <a:stretch/>
        </p:blipFill>
        <p:spPr>
          <a:xfrm>
            <a:off x="5367240" y="1527120"/>
            <a:ext cx="309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5"/>
          <a:stretch/>
        </p:blipFill>
        <p:spPr>
          <a:xfrm>
            <a:off x="3382920" y="2265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244440" y="423216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th each breath, air goes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ut when the person exhales, the lung collapse because of the build up of pressure in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causes the lung to become smaller and smaller with each breath and exha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015920" y="1609560"/>
            <a:ext cx="7031160" cy="471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5286240" y="133524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216000" y="3621240"/>
            <a:ext cx="5289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380880" y="35568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TENSION PNEUMOTHORAX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BjbKEAQFG6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62" name="Tension Pneumothorax.mp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29640" cy="440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the pleural space continues to fill with displaced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results in compression of the lung and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an cause shifting over into the other cavity and result in compression of the trachea and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14360" y="2346480"/>
            <a:ext cx="2654280" cy="3073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5232240" y="1784520"/>
            <a:ext cx="2997360" cy="37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905040" y="274680"/>
            <a:ext cx="732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20680" y="1509840"/>
            <a:ext cx="4025880" cy="2019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4297320" y="2695680"/>
            <a:ext cx="4629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51360" cy="52578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5488560" y="33526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SIDE IS 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5409360" y="2362320"/>
            <a:ext cx="18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RACHEAL DEV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5265720" y="4800600"/>
            <a:ext cx="19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EART PUSHE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OPPOSITE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371600" y="31240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LUNG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Straight Arrow Connector 6"/>
          <p:cNvCxnSpPr>
            <a:stCxn id="274" idx="1"/>
          </p:cNvCxnSpPr>
          <p:nvPr/>
        </p:nvCxnSpPr>
        <p:spPr>
          <a:xfrm flipH="1" flipV="1">
            <a:off x="3504600" y="2590560"/>
            <a:ext cx="1905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8" name="Straight Arrow Connector 10"/>
          <p:cNvCxnSpPr>
            <a:stCxn id="275" idx="1"/>
          </p:cNvCxnSpPr>
          <p:nvPr/>
        </p:nvCxnSpPr>
        <p:spPr>
          <a:xfrm flipH="1" flipV="1">
            <a:off x="4190400" y="5028840"/>
            <a:ext cx="10674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809720" y="176544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087640" y="2141640"/>
            <a:ext cx="499896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blood accumulates in the pleural sp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 associated with rib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771480" y="274680"/>
            <a:ext cx="7458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714680" y="1143000"/>
            <a:ext cx="57150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86" name="Content Placeholder 3" descr=""/>
          <p:cNvPicPr/>
          <p:nvPr/>
        </p:nvPicPr>
        <p:blipFill>
          <a:blip r:embed="rId1"/>
          <a:stretch/>
        </p:blipFill>
        <p:spPr>
          <a:xfrm>
            <a:off x="2043000" y="2016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466560" y="1527120"/>
            <a:ext cx="8217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energy thoracic injuries oftentimes with rapid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 rapid deceleration results in a shearing effect on the aorta which is f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ne of the major causes of instant blunt trauma dea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rib fractures i.e. 1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, 2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and 3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r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est x ray may show widened mediastin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731880" y="274680"/>
            <a:ext cx="7497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ORTIC T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25360" y="1125360"/>
            <a:ext cx="5087880" cy="3200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4851360" y="3152880"/>
            <a:ext cx="4105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63640" y="274680"/>
            <a:ext cx="73659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 CHEST X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328840" y="128592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06440" y="355680"/>
            <a:ext cx="8381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AORTIC RUPTU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hY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98" name="Traumatic Aortic Rupture - Simplified Pathophysiology.mp4" descr=""/>
          <p:cNvPicPr/>
          <p:nvPr/>
        </p:nvPicPr>
        <p:blipFill>
          <a:blip r:embed="rId1"/>
          <a:stretch/>
        </p:blipFill>
        <p:spPr>
          <a:xfrm>
            <a:off x="3341520" y="1719360"/>
            <a:ext cx="2482920" cy="44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HORACIC CONT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ay result is a contusion to the chest wall, cardiac contusion or pulmonary cont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in a 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“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”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to the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ll cause shortness of breath since that part of the lung can no longer efficiently exchange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289240" y="2048040"/>
            <a:ext cx="4529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660240" y="5638680"/>
            <a:ext cx="756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E THE AIR IN THE SOFT TISSUE ON THE LEF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WHEN PALPATED THAT IS CREPI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981080" y="1590840"/>
            <a:ext cx="51721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ypically associated with thoracic contusion in the region of the hea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Concern is that there may be an arrhyth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ost common finding is sinus tachycar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ay have bump in cp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here is still a debate of how real an entity this 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ARDIAC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sults from blood spilling within the pericard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is will compress the heart and result in hypoten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RICARDIAL TAMPON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ay result from intrathoracic or intra abdominal inju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ressure changes to either cavity may cause a tear to the diaphrag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abbing injuries such as rib fractures can tear the diaphrag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 large tear can result in bowel migrating into the chest ca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n exam (and on x ray), this can be confused with a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905200" y="155736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716292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EPIDEM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VC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: Account for 75% when pedestrian versus auto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OWS TO THE ABDOMEN: 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: 6%-9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OST COMMON INJURED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i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ollow viscous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ECHANISM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CREASE IN INTRAABDOMINAL PRESSURE eg; seatbelt pushing in when the shoulder harness is not w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UTWARD FORCE eg; handlebar, bat, steering wheel…..objects that will compress the organs resulting in lacerations and t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DECELERATION eg; shearing force tearing a vessel or organ from their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tor vehicle acc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ssa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orts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MAJOR SOURCES OF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ECONDARY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unt injury resulting in fractures to the ribs or pelvis can result in lacerations to the other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….The physiologic catalyst causing the severity of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 THE POTENTIAL FO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for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atality at the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Vehicle type an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llov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atient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location within the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intrusion into the passenger com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damage to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ea tbelt used? What t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irbags deploy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Unrestrained victims have higher risk of injury than restrained….Seat belts save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 predictor on abdominal injury to front seat passengers but not the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destrians oftentimes get a triad of cranial, abdominal and leg injury….If you see one of them, suspect the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ccurs from rib frac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Upward trauma such as handle bar, b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st common intra abdominal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acerations may tear through the spleen or get walled off by the outer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PLENIC LACERATION: SUBCAPSULAR HEM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56236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en with deceleration or shearing mechanism can result in vascular t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s are retroperitoneal and susceptible to direct 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KIDNEY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elvis is heavily vascular and difficult to clot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eads to significant bleeding which is worsened by the unstable bones breaking up cl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so may indicate bladde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reatment is external fixation of the pelv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to grab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ELVIC F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7913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NOTHER REASON NOT TO DRINK AND DR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ADDER RU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3733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 startAt="7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cd1b9"/>
                </a:solidFill>
                <a:latin typeface="Franklin Gothic Medium"/>
              </a:rPr>
              <a:t>RAPID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 wast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2203560" y="1781280"/>
            <a:ext cx="4635360" cy="3555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USE YOUR EYES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EY WILL GIVE YOU ALMOST ALL THE INFORMATION YOU NEED IN ORDER TO DETERMINE HOW THE VICTIM IS D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GATHER INFORMATION AS YOU APPROACH THE VICTIM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y signs of trau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ee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alking, grimacing or yel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eathing fast? Sl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 the person mov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CAN THEY BR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re they talking normally?  If so there is no airway 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hoking or facial bleeding? Check for an airway ob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pitched noises (stridor): Has airway swelling or partial obstruction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BL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Look over the whole body and make sure there is no significant blood lo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549360" y="2921040"/>
            <a:ext cx="355608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889600" y="2473200"/>
            <a:ext cx="2832120" cy="2870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3"/>
          <a:stretch/>
        </p:blipFill>
        <p:spPr>
          <a:xfrm>
            <a:off x="3151080" y="39085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COLLISION FACTORS ASSOCIATED WITH HIGHER RATES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or near side motor vehicle c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rupt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rushing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ntrusion greater than 15 cm or six i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ANY NEUROLOGIC CHANG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swering questions and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rmal? Mentation is n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Confused or obtunded? Lack of oxygen? Blood l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ving all the extrem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Yes? No par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? Possible spinal injury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DOMINAL PAIN AND TENDERNESS MAKE ABDOMINAL INJURIES MORE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AM HOWEVER IS NOT VERY SEN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CCURACY OF ABDOMINAL TENDERNESS AND PAIN IS ONLY 55-65 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ATBELT SIGN  OR ECCHYMOSIS OVER THE ABDOMINAL WALL CORRELATES WITH ABDOMINAL INJURIES IN ONE-THIRD OF THE CASE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ATBELT 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238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NG OR CLOSED HEAD INJURIES MAY PREVENT PATIENTS FROM HAVING FINDING ON THE ABDOMINAL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ADYCARDIA IS SOMETIMES SEEN WITH ABDOMINAL INJURIES DUE TO AN ABDOMINAL VAGAL RESPONS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28480" y="1706400"/>
            <a:ext cx="816480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LOOK AT THE WHOLE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is easy to fixate on one part and not see the 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CONGRATULATION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YOU JUST COMPLETED THE PRIMARY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7086600" y="2895480"/>
            <a:ext cx="1752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ccd1b9"/>
                </a:solidFill>
                <a:latin typeface="Franklin Gothic Medium"/>
              </a:rPr>
              <a:t>RECOGNIZING RESPIRATORY DIST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ASSESS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onditions that result in a compromise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oxygen (in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rid of carbon dioxide (ex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5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2080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DITIONS THAT RESULT IN A COMPROMISE IN BREA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trauma and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h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hes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tu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Rib fra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Pneumo/hemo/tension: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RISK FACTORS FOR OCCUPANTS IN MVC</a:t>
            </a:r>
            <a:r>
              <a:rPr b="0" lang="ja-JP" sz="36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ge greater than or equal to six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seat occup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ange in brea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BREATHING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Can result in an increase in respiratory rate because the person is trying to compensate for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Or a decrease in respiratory drive and the breathing slows down because the person is tired or losing consciousness</a:t>
            </a:r>
            <a:r>
              <a:rPr b="0" lang="en-US" sz="20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Franklin Gothic Medium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Airway obstruct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or neck swelling or 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Chest wall injur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ruising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Stabb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GS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repitus: air in the skin that leaks out from the lungs.  Feels crunch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</a:rPr>
              <a:t>AIRWAY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DETERMINE IF AND THE EXTENT OF THE BREATHING ISS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I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leeding but able to breath and manage the secre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ruise but no airway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ODERAT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hat affects breathing but no signs of di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EVER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compromise and di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F YOU DON’T ACT THEY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MAY</a:t>
            </a: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MINOR AND MODERATE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Victim should be able to breath on their own without significant difficul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y should have a normal neurologic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t the person up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ontrol the bleeding if any</a:t>
            </a: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34949"/>
                </a:solidFill>
                <a:latin typeface="Georgia"/>
              </a:rPr>
              <a:t>SEVERE DI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DO SOMETHING OR THEY MAY D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558720" y="2495520"/>
            <a:ext cx="74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KING 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RACHE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HORAC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488880" y="1263600"/>
            <a:ext cx="63248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 rot="21540000">
            <a:off x="1295280" y="2554200"/>
            <a:ext cx="67406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PROCED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KING TU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301680" y="1625760"/>
            <a:ext cx="3187800" cy="2552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5954760" y="3511440"/>
            <a:ext cx="3022560" cy="267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3:12:33Z</dcterms:created>
  <dc:creator>GHPROS</dc:creator>
  <dc:description/>
  <dc:language>en-US</dc:language>
  <cp:lastModifiedBy>Windows User</cp:lastModifiedBy>
  <dcterms:modified xsi:type="dcterms:W3CDTF">2018-01-18T14:47:19Z</dcterms:modified>
  <cp:revision>70</cp:revision>
  <dc:subject/>
  <dc:title>BLUNT THORACIC AND ABDOMINAL TRAUMA</dc:title>
</cp:coreProperties>
</file>