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9.jpeg" ContentType="image/jpeg"/>
  <Override PartName="/ppt/media/image14.jpeg" ContentType="image/jpeg"/>
  <Override PartName="/ppt/media/image6.jpeg" ContentType="image/jpeg"/>
  <Override PartName="/ppt/media/image50.jpeg" ContentType="image/jpeg"/>
  <Override PartName="/ppt/media/image37.jpeg" ContentType="image/jpeg"/>
  <Override PartName="/ppt/media/image67.png" ContentType="image/pn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15.jpeg" ContentType="image/jpeg"/>
  <Override PartName="/ppt/media/image18.jpeg" ContentType="image/jpeg"/>
  <Override PartName="/ppt/media/image19.wmf" ContentType="image/x-wmf"/>
  <Override PartName="/ppt/media/image66.jpeg" ContentType="image/jpeg"/>
  <Override PartName="/ppt/media/image9.jpeg" ContentType="image/jpeg"/>
  <Override PartName="/ppt/media/image21.jpeg" ContentType="image/jpeg"/>
  <Override PartName="/ppt/media/image29.png" ContentType="image/png"/>
  <Override PartName="/ppt/media/image64.jpeg" ContentType="image/jpeg"/>
  <Override PartName="/ppt/media/image38.jpeg" ContentType="image/jpeg"/>
  <Override PartName="/ppt/media/image20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17.jpeg" ContentType="image/jpeg"/>
  <Override PartName="/ppt/media/image63.png" ContentType="image/png"/>
  <Override PartName="/ppt/media/image16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2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.jpeg" ContentType="image/jpeg"/>
  <Override PartName="/ppt/media/image41.png" ContentType="image/png"/>
  <Override PartName="/ppt/media/image45.jpeg" ContentType="image/jpeg"/>
  <Override PartName="/ppt/media/image46.png" ContentType="image/png"/>
  <Override PartName="/ppt/media/image68.png" ContentType="image/png"/>
  <Override PartName="/ppt/media/image47.jpeg" ContentType="image/jpeg"/>
  <Override PartName="/ppt/media/image4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39DE-CD33-49BE-AC27-43664AC2F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0F7D-D47E-4715-893C-6B7DA6E31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25B5-04A6-46E1-B01B-026089DF4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0719-765E-4F2C-BE41-DBCAA544C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6DEB-ACE5-45C1-885C-D68C51FA09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E8F0-4595-4FFB-8B39-364D730101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BA1D5-B635-457D-8A3D-B0BE3AB7C5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63DA-E319-42A4-83F9-F985710568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7553-A333-4012-884F-B5E3CFDAE6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CFB7-ED99-46E3-912E-8D9258C49D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5577-537D-4667-A5AF-1D00F2E302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11D0-FCBC-4BE9-9E85-5994387C1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48A6-D66A-4CBC-8F97-446C0E0704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E0D6B-7FBB-459C-A4D8-433A0DA008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264D-6DBC-4B02-8DCE-8D8E4E8ABD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20F54-D564-47AD-B535-A34F0603E8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AFB1-C154-4CFB-A0A3-06A665CE67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24F-22B7-4C89-808E-B72EBD965D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B3C-D4BB-4C2F-A5C1-EE7A4A6EEF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BC6-A024-4C99-84E9-3D9775AC25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BEB-8750-4413-9EC5-917F41F44C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4EF-8DBB-498F-A9BC-203A675924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74BF-F3C6-4231-A7E6-DFC617D662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CEE-A136-4641-91F1-E574973769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71E-4C75-4AAD-9E8A-0030710E2F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3E4-5C1C-4B05-B60F-79BB5554FF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844-09BC-4970-8236-7237BBFEBB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6C4-0F85-4A25-B6EC-F438E0E42F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AC7-3BFD-4DC9-8B2E-2E8BB7E244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1CD-A3F7-418F-ADBC-3DE46033B8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97F97-83B5-4D81-AB2D-943F0B1AF4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464F9-5FC5-4B1D-B95C-6131681307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99863-55E9-4913-B378-3BD8E22BD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1369-CD59-45C3-AE82-2E13FB034D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3AA70-67B7-455F-9EEC-04B86CBA8F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1C89B-9A1A-4E1F-B515-E2E2FD9C22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DA964-B569-46F4-91C2-4379237DA2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FA337-239B-4F12-8A8C-F5E69BBD20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2AF60-5B07-49F8-ADE7-AFA1F68A44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AA697-9520-4CE3-BB90-267C18A2FC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D3F3A-3D62-4008-A365-088DC3AFF6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C0767-7985-4382-835A-3F9B1EE61B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200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3480" y="171936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52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200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3480" y="4019400"/>
            <a:ext cx="270576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B295E-377B-49F7-BB8D-989DBEBF1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6604-1DB5-46E1-B855-375AF2A2F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355320"/>
            <a:ext cx="83790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1C4C-CA1B-4E76-9DFC-A3A27297C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6388-FDD5-4CB3-B60C-6D314723B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7200" y="401940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8710-F8A2-4354-891C-150FDB463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7200" y="1719360"/>
            <a:ext cx="4101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4019400"/>
            <a:ext cx="84042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5721-7165-4C3E-A169-08AFD6415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7701E-134D-4C6F-A1E7-88A91216FB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9798F-024C-4F6B-9EBD-8D3D47D5880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B0B84-8639-498D-B02D-B18BDD51D55E}" type="slidenum"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152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8234280" y="6354720"/>
            <a:ext cx="57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FBE3E-E35A-488A-8587-222721B2C5C1}" type="slidenum"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DAN MUSE, M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BLUNT THORACIC AND ABDOMINAL TRAU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7162920" y="4838760"/>
            <a:ext cx="75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KING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Georgia"/>
              <a:buAutoNum type="arabicPeriod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Classified as a supraglottic tube or one that is above the vocal 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Georgia"/>
              <a:buAutoNum type="arabicPeriod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llows for a blind insertion and secure the airway so that the person can receive oxygen and be ventilated (exchange oxygen for carbon dioxid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Georgia"/>
              <a:buAutoNum type="arabicPeriod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sertion only takes seconds and virtually fail saf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KING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Not breathing and/or no pul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irway (facial, neck and chest) trau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ND/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Unconscious or near unconscious person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Labored brea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Minimal breathing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Or not breathing at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KING TUBE VIDE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https://www.youtube.com/watch?v=BELokurs5fU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3" name="Tips from Tom_ King LTS-D Detailed Overview.mp4" descr=""/>
          <p:cNvPicPr/>
          <p:nvPr/>
        </p:nvPicPr>
        <p:blipFill>
          <a:blip r:embed="rId1"/>
          <a:stretch/>
        </p:blipFill>
        <p:spPr>
          <a:xfrm>
            <a:off x="668160" y="1719360"/>
            <a:ext cx="7829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534949"/>
                </a:solidFill>
                <a:latin typeface="Georgia"/>
              </a:rPr>
              <a:t>NEEDLE TRACHEOSTOM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177840" y="1628640"/>
            <a:ext cx="3825720" cy="4572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"/>
          <p:cNvPicPr/>
          <p:nvPr/>
        </p:nvPicPr>
        <p:blipFill>
          <a:blip r:embed="rId2"/>
          <a:stretch/>
        </p:blipFill>
        <p:spPr>
          <a:xfrm>
            <a:off x="5154480" y="3978360"/>
            <a:ext cx="382284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177840" y="1587600"/>
            <a:ext cx="3784680" cy="45831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4705200" y="3112920"/>
            <a:ext cx="42721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Not breathing and/or no pul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irway (facial, neck and chest) trau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ND/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Unconscious or near unconscious person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Labored brea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Minimal breathing eff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Or not breathing at all</a:t>
            </a: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br>
              <a:rPr sz="2400"/>
            </a:br>
            <a:r>
              <a:rPr b="0" lang="en-US" sz="2400" spc="-1" strike="noStrike">
                <a:solidFill>
                  <a:srgbClr val="7b9899"/>
                </a:solidFill>
                <a:latin typeface="Georgia"/>
              </a:rPr>
              <a:t>https://www.youtube.com/watch?v=NmHxhpMfD4c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37" name="TEST VIDEO - Cricothyrotomy Landmarks.mp4" descr=""/>
          <p:cNvPicPr/>
          <p:nvPr/>
        </p:nvPicPr>
        <p:blipFill>
          <a:blip r:embed="rId1"/>
          <a:stretch/>
        </p:blipFill>
        <p:spPr>
          <a:xfrm>
            <a:off x="1892160" y="1719360"/>
            <a:ext cx="5381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NEEDLE TRACHEOSTOMY</a:t>
            </a:r>
            <a:br>
              <a:rPr sz="2800"/>
            </a:b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https://www.youtube.com/watch?v=aPiQA2XKkc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39" name="Needle Cricothyrotomy.mp4" descr=""/>
          <p:cNvPicPr/>
          <p:nvPr/>
        </p:nvPicPr>
        <p:blipFill>
          <a:blip r:embed="rId1"/>
          <a:stretch/>
        </p:blipFill>
        <p:spPr>
          <a:xfrm>
            <a:off x="1628640" y="1719360"/>
            <a:ext cx="59086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1368360" y="280656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534949"/>
                </a:solidFill>
                <a:latin typeface="Georgia"/>
              </a:rPr>
              <a:t>NEEDLE THORACOTOM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731880" y="2925720"/>
            <a:ext cx="6324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MOTOR VEHICLE COLLISIONS THE MAJOR CAUSE OF BLUNT THORACIC INJU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HORAC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301680" y="152712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5129280" y="1527120"/>
            <a:ext cx="3720960" cy="218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"/>
          <p:cNvPicPr/>
          <p:nvPr/>
        </p:nvPicPr>
        <p:blipFill>
          <a:blip r:embed="rId3"/>
          <a:stretch/>
        </p:blipFill>
        <p:spPr>
          <a:xfrm>
            <a:off x="2828880" y="408456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NEEDLE THORACOS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ND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Trauma to the chest and 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  <a:ea typeface="ＭＳ Ｐゴシック"/>
              </a:rPr>
              <a:t>suspected tension pneumothor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Not breathing and/or no pu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Unconscious or near unconscious person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Labored breat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Minimal breathing effor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Or not breathing at 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9000" indent="-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NEEDLE THROACOSTOM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ttps://www.youtube.com/watch?v=co9_RLN78I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50" name="Tension Pneumothorax and Needle Thoracostomy.mp4" descr=""/>
          <p:cNvPicPr/>
          <p:nvPr/>
        </p:nvPicPr>
        <p:blipFill>
          <a:blip r:embed="rId1"/>
          <a:stretch/>
        </p:blipFill>
        <p:spPr>
          <a:xfrm>
            <a:off x="668160" y="1719360"/>
            <a:ext cx="7829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NEEDLE THROACOSTOM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ttps://www.youtube.com/watch?v=UvHJ4pjNh2Q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52" name="How To_ Needle Decompression of the Chest.mp4" descr=""/>
          <p:cNvPicPr/>
          <p:nvPr/>
        </p:nvPicPr>
        <p:blipFill>
          <a:blip r:embed="rId1"/>
          <a:stretch/>
        </p:blipFill>
        <p:spPr>
          <a:xfrm>
            <a:off x="668160" y="1719360"/>
            <a:ext cx="7829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O NO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BCDE: AIRWAY, BREATHING, CIRCULATION, DEFICIT (NEURO), EXPOSURE (UND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ECONDARY IF TIME 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ON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 WASTE TIME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Routine Patient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Control/stop any identified life-threatening hemorrhage (direct pressure, tournique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Ensure cervical spine stabilization*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Determine presence or absence of significant neurologic signs and symptoms:  decreased motor function, decreased sensory function, priapism, and loss of bladder/bowe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Routine Patient Care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</a:t>
            </a:r>
            <a:r>
              <a:rPr b="1" lang="en-US" sz="2400" spc="-1" strike="noStrike">
                <a:solidFill>
                  <a:srgbClr val="ff3333"/>
                </a:solidFill>
                <a:latin typeface="Franklin Gothic Medium"/>
              </a:rPr>
              <a:t>Long backboards are NOT considered standard of care in most cases of potential spinal injury. </a:t>
            </a: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Instead, use spinal motion restriction with a cervical collar and cot in most cases. Note that there are exceptions, such as a patient with a potential spinal injury who cannot be log-rolled while being transported and may be at risk of a compromised air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Spinal Immobilization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1. Establish manual c-spine stabilization in the position that the patient is f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2. Assess for correct size and properly apply a cervical col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3. Move patient from the position found to the location of the ambulance stretcher utilizing a device such as a scoop stretcher, long spine board, or if necessary, by having the patient stand and pivot to the stretcher. DO NOT permit the patient to struggle to their feet from a supine 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4. Position patient on the ambulance stretc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pinal Immobilization Procedure (continu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5. Remove scoop or log roll patient off long spine board or other device (if such device was utiliz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6. A blanket roll or blocks and tape attached to the stretcher may be used to minimize lateral movement of head during transp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7. Once on the ambulance stretcher, instruct patient to lie sti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8. The head of the stretcher may be elevated 20-30 degrees in a position of comf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pinal Immobilization Procedure (continu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9. Secure cross stretcher straps and over-the-shoulder belts firm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10. Utilize a SLIDE BOARD at the destination to move the patient smoothly to the hospital stretc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11. Ensure appropriate documentation of procedure in patient care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FACTORS ASSOCIATED WITH SIGNIFICANT INJU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High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Not wearing a seat b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Extensive vehicular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teering wheel defor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Selective Spinal Immobilization Procedur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MEDICAL CONTROL O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 distracting inju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 change in mental status; head trauma, metabolic, drugs/alcoh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rmal neurologic ex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 neck pain or tender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t over 65 years o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3333"/>
                </a:solidFill>
                <a:latin typeface="Franklin Gothic Medium"/>
              </a:rPr>
              <a:t>ONLY THEN CAN YOU CLEAR THE CERVICAL SP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6000" indent="-21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Routine Patien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· Provide appropriate management for identified thoracic inju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PEN PNEUMOTHORA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mmediately apply an occlusive dressing sealing 3 s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monitor patient closely for evidence of tension pneumothor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274680" y="1811160"/>
            <a:ext cx="840744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ENSION PNEUMOTHORAX: (Respiratory distress or apnea, Difficult to ventilate with bag, distended neck veins, unilateral decreased or absent breath sounds, tracheal deviation away from the side without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ound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f present following closure of open pneumothorax, release occlusive dressing temporar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FLAIL CHEST: (paradoxical movement of portion of chest w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osition patient with injured side down, unless contraindic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• 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rovide manual stabilization of the flail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NOTE: Assisted positive pressure ventilations using a BVM device may be indicated and may also serve as an “internal splinting” of the flail segment due to lung expan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Control/stop any identified life threatening hemorrhage (direct pressure,tourniquets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Impaled Objects:  Secure in place with a bulky dress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Open chest wound:  Cover with an occlusive dressing, sealed on 3 sides, or use a commercial device; if the patient’s condition deteriorates, remove the d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omentarily, then reapp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Flail segment with paradoxical movement and in respiratory distress:  Consider positive-pressure ventilation.  Do not splint the ches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T STANDING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EMT-INTERMEDIATE / ADVANCED EMT STANDING 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Provide advanced airway management only if patient is not adequately oxygenating or ventilating and not corrected by BV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PARAMEDIC STANDING 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· Needle chest decompression if indicated (2nd intercostal space, midclavicular line with at least 3.25 inch, 14g angioca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EMS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WO LARGE BORE IV</a:t>
            </a:r>
            <a:r>
              <a:rPr b="0" lang="ja-JP" sz="28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 IN TRAUMA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AGGRESSIVE FLUID RESUSCITATION PUSHING FOR NORMAL BP IS CONTROVER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HERE IS THE THOUGHT THAT THIS CAN CAUSE CONTINUED BLEEDING, DILUTION OF BLOOD AND THE POSSIBILITY OF DISRUPTING CLOTS THAT ALREADY HAVE FO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LUID RESUSC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MEAN ARTERIAL PRESSURE (M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YSTOLIC + (2 X DIASTOLIC) /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Eg: 120 + (2 X 80) EQUALS 280/3 = 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Medium"/>
                <a:ea typeface="ＭＳ Ｐゴシック"/>
              </a:rPr>
              <a:t>MAP OF 65 OR GREATER EQUALS CEREBRAL PER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LUID RESUSC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OINT OF ENTR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0520" y="1719360"/>
            <a:ext cx="8404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llow the state protocols for the appropriate destination.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egion 5 has only one level 3 trauma center.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at is not the highest level center and “real” trauma should head to Region 4 level one trauma centers.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3"/>
          <p:cNvSpPr/>
          <p:nvPr/>
        </p:nvSpPr>
        <p:spPr>
          <a:xfrm>
            <a:off x="457200" y="2666880"/>
            <a:ext cx="48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) Mechanism-of -Injury Criteri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ls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Adults &gt; 20 feet (one story is equal to 10 fe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Children &gt; 10 feet or two or three times the height of the chil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-Risk auto crashe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Death in same passenger compart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Intrusion &gt; 12 inches occupant site, &gt;18 inches any site •Ejection (partial or complete) from vehic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Vehicle telemetry data consistent with high risk of inju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 vs. pedestrian/bicycle thrown/run over or with significant (&gt;20 mph) impact •Motorcycle crash &gt; 20 mp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Box 4"/>
          <p:cNvSpPr/>
          <p:nvPr/>
        </p:nvSpPr>
        <p:spPr>
          <a:xfrm>
            <a:off x="6858000" y="3200400"/>
            <a:ext cx="1676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to closest appropriate Trauma Center** which may not be the highest level Trauma Center**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ight Arrow 5"/>
          <p:cNvSpPr/>
          <p:nvPr/>
        </p:nvSpPr>
        <p:spPr>
          <a:xfrm>
            <a:off x="5562720" y="35812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5783400" y="32385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8"/>
          <p:cNvSpPr/>
          <p:nvPr/>
        </p:nvSpPr>
        <p:spPr>
          <a:xfrm>
            <a:off x="685800" y="914400"/>
            <a:ext cx="763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WIDE TREATMENT POINT OF 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ULTIPLE STRUCTURES ARE AT RI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ibs and other boney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Cardiovascular; heart, aorta, major arteries    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ulmonary structures; lungs, trachea, bronchial t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aphra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ORAC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26960" y="1752480"/>
            <a:ext cx="339084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5300640" y="1739880"/>
            <a:ext cx="3657600" cy="2222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2722680" y="3629160"/>
            <a:ext cx="4222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683240" y="3139920"/>
            <a:ext cx="425448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230040" y="1905120"/>
            <a:ext cx="39452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060880" y="1550880"/>
            <a:ext cx="3997440" cy="3657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39560" y="1693800"/>
            <a:ext cx="36910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582480" y="2179800"/>
            <a:ext cx="3264120" cy="2489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396040" y="2550960"/>
            <a:ext cx="358128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ade up of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Sternum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ribs, scapula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intercostal nerves and arterie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The chest w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on the inside, is lined with pleur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and on the outside muscle and ski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122480" y="396720"/>
            <a:ext cx="6350040" cy="590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RCE = MASS X AC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The greater the mass and/or the greater the acceleration, the greater the potential for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</a:t>
            </a: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Primary function in trauma is protection of the organs inside the ch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Rarely are isolated chest wall injuries life threate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ftentimes associated with corresponding trauma inside the ch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Bru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Lac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HEST WAL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FRAC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Isolated rib fractures: may result in pain or secondary injur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ib fractures are capable  of acting like a knife and stabbing the structures in the ch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lail chest: three or more ribs which are broken in two places.  The segment will cause a paradoxical chest wal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006560" y="274680"/>
            <a:ext cx="72230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IB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23"/>
          <p:cNvGraphicFramePr/>
          <p:nvPr/>
        </p:nvGraphicFramePr>
        <p:xfrm>
          <a:off x="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182520" y="1266840"/>
            <a:ext cx="5486400" cy="2743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4"/>
          <a:stretch/>
        </p:blipFill>
        <p:spPr>
          <a:xfrm>
            <a:off x="3271680" y="3535200"/>
            <a:ext cx="55911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974880" y="274680"/>
            <a:ext cx="7254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IB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Object 23"/>
          <p:cNvGraphicFramePr/>
          <p:nvPr/>
        </p:nvGraphicFramePr>
        <p:xfrm>
          <a:off x="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4948200" y="13176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4"/>
          <a:stretch/>
        </p:blipFill>
        <p:spPr>
          <a:xfrm>
            <a:off x="488880" y="3278160"/>
            <a:ext cx="41227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Results when air is displaced within the pleural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ssociated with chest wall trauma and rib frac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PLEU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leura is a tough material that comes in two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inside sheet covers the lun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outside sheet runs over the inside of the ri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PLEU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leura reduces friction when the lungs expand and collap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ecause there is two parts to it, THERE IS ALSO A POTENTI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ir and blood can get trapped in thi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905040" y="274680"/>
            <a:ext cx="73245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17440" y="127944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4378320" y="27129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o a rib breaks</a:t>
            </a:r>
            <a:r>
              <a:rPr b="0" lang="is-IS" sz="3200" spc="-1" strike="noStrike">
                <a:solidFill>
                  <a:srgbClr val="534949"/>
                </a:solidFill>
                <a:latin typeface="Franklin Gothic Medium"/>
              </a:rPr>
              <a:t>….there is a stabbing or a shooting, or a bea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is-IS" sz="3200" spc="-1" strike="noStrike">
                <a:solidFill>
                  <a:srgbClr val="534949"/>
                </a:solidFill>
                <a:latin typeface="Franklin Gothic Medium"/>
              </a:rPr>
              <a:t>Now there is potential for air or blood to get into the pleur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301680" y="1628640"/>
            <a:ext cx="4451400" cy="2514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5511960" y="3718080"/>
            <a:ext cx="3632040" cy="2234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3444840" y="4673520"/>
            <a:ext cx="3063960" cy="2057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4"/>
          <a:stretch/>
        </p:blipFill>
        <p:spPr>
          <a:xfrm>
            <a:off x="5367240" y="1527120"/>
            <a:ext cx="3098880" cy="2616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5"/>
          <a:stretch/>
        </p:blipFill>
        <p:spPr>
          <a:xfrm>
            <a:off x="3382920" y="22654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6"/>
          <a:stretch/>
        </p:blipFill>
        <p:spPr>
          <a:xfrm>
            <a:off x="244440" y="423216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With each breath, air goes into the pleur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But when the person exhales, the lung collapse because of the build up of pressure in the pleur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is causes the lung to become smaller and smaller with each breath and exha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833400" y="274680"/>
            <a:ext cx="73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015920" y="1609560"/>
            <a:ext cx="7031160" cy="471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833400" y="274680"/>
            <a:ext cx="73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5286240" y="133524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216000" y="3621240"/>
            <a:ext cx="5289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905040" y="274680"/>
            <a:ext cx="73245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17440" y="127944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4378320" y="27129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380880" y="35568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TENSION PNEUMOTHORAX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ttps://www.youtube.com/watch?v=BjbKEAQFG6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62" name="Tension Pneumothorax.mp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29640" cy="440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ccurs when the pleural space continues to fill with displaced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is results in compression of the lung and vess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an cause shifting over into the other cavity and result in compression of the trachea and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314360" y="2346480"/>
            <a:ext cx="2654280" cy="3073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5232240" y="1784520"/>
            <a:ext cx="2997360" cy="37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905040" y="274680"/>
            <a:ext cx="732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20680" y="1509840"/>
            <a:ext cx="4025880" cy="2019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4297320" y="2695680"/>
            <a:ext cx="4629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812880" y="274680"/>
            <a:ext cx="74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51360" cy="52578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5488560" y="335268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IS SIDE IS 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5409360" y="2362320"/>
            <a:ext cx="18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RACHEAL DEV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 THE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5265720" y="4800600"/>
            <a:ext cx="19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EART PUSHE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O THE OPPOSITE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371600" y="31240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IS LUNG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Straight Arrow Connector 6"/>
          <p:cNvCxnSpPr>
            <a:stCxn id="274" idx="1"/>
          </p:cNvCxnSpPr>
          <p:nvPr/>
        </p:nvCxnSpPr>
        <p:spPr>
          <a:xfrm flipH="1" flipV="1">
            <a:off x="3504600" y="2590560"/>
            <a:ext cx="1905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8" name="Straight Arrow Connector 10"/>
          <p:cNvCxnSpPr>
            <a:stCxn id="275" idx="1"/>
          </p:cNvCxnSpPr>
          <p:nvPr/>
        </p:nvCxnSpPr>
        <p:spPr>
          <a:xfrm flipH="1" flipV="1">
            <a:off x="4190400" y="5028840"/>
            <a:ext cx="10674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812880" y="274680"/>
            <a:ext cx="74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ENSION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809720" y="176544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087640" y="2141640"/>
            <a:ext cx="4998960" cy="35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HE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ccurs when blood accumulates in the pleural sp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ften associated with rib 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771480" y="274680"/>
            <a:ext cx="7458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714680" y="1143000"/>
            <a:ext cx="57150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EMOTHORAX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86" name="Content Placeholder 3" descr=""/>
          <p:cNvPicPr/>
          <p:nvPr/>
        </p:nvPicPr>
        <p:blipFill>
          <a:blip r:embed="rId1"/>
          <a:stretch/>
        </p:blipFill>
        <p:spPr>
          <a:xfrm>
            <a:off x="2043000" y="201600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ORTIC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466560" y="1527120"/>
            <a:ext cx="8217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ssociated with high energy thoracic injuries oftentimes with rapid de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e rapid deceleration results in a shearing effect on the aorta which is fix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ORTIC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one of the major causes of instant blunt trauma dea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ssociated with high rib fractures i.e. 1</a:t>
            </a:r>
            <a:r>
              <a:rPr b="0" lang="en-US" sz="3200" spc="-1" strike="noStrike" baseline="30000">
                <a:solidFill>
                  <a:srgbClr val="534949"/>
                </a:solidFill>
                <a:latin typeface="Georgia"/>
              </a:rPr>
              <a:t>st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, 2</a:t>
            </a:r>
            <a:r>
              <a:rPr b="0" lang="en-US" sz="3200" spc="-1" strike="noStrike" baseline="30000">
                <a:solidFill>
                  <a:srgbClr val="534949"/>
                </a:solidFill>
                <a:latin typeface="Georgia"/>
              </a:rPr>
              <a:t>nd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 and 3</a:t>
            </a:r>
            <a:r>
              <a:rPr b="0" lang="en-US" sz="3200" spc="-1" strike="noStrike" baseline="30000">
                <a:solidFill>
                  <a:srgbClr val="534949"/>
                </a:solidFill>
                <a:latin typeface="Georgia"/>
              </a:rPr>
              <a:t>rd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 ri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hest x ray may show widened mediastin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731880" y="274680"/>
            <a:ext cx="7497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ORTIC T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25360" y="1125360"/>
            <a:ext cx="5087880" cy="3200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4851360" y="3152880"/>
            <a:ext cx="4105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863640" y="274680"/>
            <a:ext cx="73659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 CHEST X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2328840" y="1285920"/>
            <a:ext cx="44863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406440" y="355680"/>
            <a:ext cx="8381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355320"/>
            <a:ext cx="8379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AORTIC RUPTU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https://www.youtube.com/watch?v=hY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98" name="Traumatic Aortic Rupture - Simplified Pathophysiology.mp4" descr=""/>
          <p:cNvPicPr/>
          <p:nvPr/>
        </p:nvPicPr>
        <p:blipFill>
          <a:blip r:embed="rId1"/>
          <a:stretch/>
        </p:blipFill>
        <p:spPr>
          <a:xfrm>
            <a:off x="3341520" y="1719360"/>
            <a:ext cx="2482920" cy="44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THORACIC CONT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May result is a contusion to the chest wall, cardiac contusion or pulmonary cont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PULMONARY CONT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Results in a 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  <a:ea typeface="ＭＳ Ｐ明朝"/>
              </a:rPr>
              <a:t>“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bruise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  <a:ea typeface="ＭＳ Ｐ明朝"/>
              </a:rPr>
              <a:t>”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 to the 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Will cause shortness of breath since that part of the lung can no longer efficiently exchange oxy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2289240" y="2048040"/>
            <a:ext cx="45291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ULMONARY CONT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660240" y="5638680"/>
            <a:ext cx="756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NOTE THE AIR IN THE SOFT TISSUE ON THE LEF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WHEN PALPATED THAT IS CREPIT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981080" y="1590840"/>
            <a:ext cx="51721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Typically associated with thoracic contusion in the region of the hea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Concern is that there may be an arrhyth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Most common finding is sinus tachycar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May have bump in cp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Franklin Gothic Medium"/>
              </a:rPr>
              <a:t>There is still a debate of how real an entity this 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ARDIAC CONT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Results from blood spilling within the pericardial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is will compress the heart and result in hypoten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RICARDIAL TAMPON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ay result from intrathoracic or intra abdominal inju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ressure changes to either cavity may cause a tear to the diaphrag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tabbing injuries such as rib fractures can tear the diaphrag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APHRAG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 large tear can result in bowel migrating into the chest ca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On exam (and on x ray), this can be confused with a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APHRAG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APHRAG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905200" y="155736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ABDOMINAL TRAU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716292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EPIDEM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VC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: Account for 75% when pedestrian versus autos ar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LOWS TO THE ABDOMEN: 1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LLS: 6%-9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OST COMMON INJURED ORG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pl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Li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Hollow viscous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MECHANISM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NCREASE IN INTRAABDOMINAL PRESSURE eg; seatbelt pushing in when the shoulder harness is not w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UTWARD FORCE eg; handlebar, bat, steering wheel…..objects that will compress the organs resulting in lacerations and t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DECELERATION eg; shearing force tearing a vessel or organ from their attac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otor vehicle acc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ssa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ports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MAJOR SOURCES OF BLUNT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SECONDARY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44280"/>
                <a:tab algn="l" pos="501480"/>
                <a:tab algn="l" pos="958680"/>
                <a:tab algn="l" pos="1415880"/>
                <a:tab algn="l" pos="1873080"/>
                <a:tab algn="l" pos="2330280"/>
                <a:tab algn="l" pos="2787480"/>
                <a:tab algn="l" pos="3244680"/>
                <a:tab algn="l" pos="3701880"/>
                <a:tab algn="l" pos="4159080"/>
                <a:tab algn="l" pos="4616280"/>
                <a:tab algn="l" pos="5073480"/>
                <a:tab algn="l" pos="5530680"/>
                <a:tab algn="l" pos="5987880"/>
                <a:tab algn="l" pos="6445080"/>
                <a:tab algn="l" pos="6902280"/>
                <a:tab algn="l" pos="7359480"/>
                <a:tab algn="l" pos="7816680"/>
                <a:tab algn="l" pos="8273880"/>
                <a:tab algn="l" pos="8731080"/>
                <a:tab algn="l" pos="9188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lunt injury resulting in fractures to the ribs or pelvis can result in lacerations to the other org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RCE….The physiologic catalyst causing the severity of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ORCE = MASS X AC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GREATER THE MASS AND/OR THE GREATER THE ACCELERATION, THE GREAT THE POTENTIAL FOR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ABDOMINAL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ltered mental status: alcohol, drugs, sleep depr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stractions: cell phones, searching for a channel or reaching for some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ulty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RECIPITATING EVENTS FOR BLUNT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Fatality at the sc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Vehicle type and 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Rollov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atient</a:t>
            </a:r>
            <a:r>
              <a:rPr b="0" lang="ja-JP" sz="28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 location within the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xtent of intrusion into the passenger com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xtent of damage to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teering wheel deform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ea tbelt used? What ty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8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Airbags deploy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HISTORICAL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Unrestrained victims have higher risk of injury than restrained….Seat belts save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teering wheel deformity predictor on abdominal injury to front seat passengers but not the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edestrians oftentimes get a triad of cranial, abdominal and leg injury….If you see one of them, suspect the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HISTORICAL CONSID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Occurs from rib fract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Upward trauma such as handle bar, b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ost common intra abdominal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Lacerations may tear through the spleen or get walled off by the outer caps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PLEN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PLENIC LACERATION: SUBCAPSULAR HEMAT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PLEN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5562360" cy="32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een with deceleration or shearing mechanism can result in vascular t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Kidneys are retroperitoneal and susceptible to direct blunt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KIDNEY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Pelvis is heavily vascular and difficult to clot o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Leads to significant bleeding which is worsened by the unstable bones breaking up cl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lso may indicate bladder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9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reatment is external fixation of the pelv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ltered Mental Status: alcohol, drugs, sleep depr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stractions: cell phones, searching for a channel or reaching to grab some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aulty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a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RECIPITATING EVENTS FOR BLUNT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ELVIC F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3244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EXTERNAL FIX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7913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EXTERNAL FIX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LVIC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095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ANOTHER REASON NOT TO DRINK AND DR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ADDER RUP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373392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 startAt="7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cd1b9"/>
                </a:solidFill>
                <a:latin typeface="Franklin Gothic Medium"/>
              </a:rPr>
              <a:t>RAPID 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Do no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ABCDE: airway, breathing, circulation, deficit (neuro), exposure (und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Don</a:t>
            </a:r>
            <a:r>
              <a:rPr b="0" lang="ja-JP" sz="3200" spc="-1" strike="noStrike">
                <a:solidFill>
                  <a:srgbClr val="534949"/>
                </a:solidFill>
                <a:latin typeface="Arial"/>
                <a:ea typeface="ＭＳ Ｐ明朝"/>
              </a:rPr>
              <a:t>’</a:t>
            </a: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 wast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"/>
          <p:cNvPicPr/>
          <p:nvPr/>
        </p:nvPicPr>
        <p:blipFill>
          <a:blip r:embed="rId1"/>
          <a:stretch/>
        </p:blipFill>
        <p:spPr>
          <a:xfrm>
            <a:off x="2203560" y="1781280"/>
            <a:ext cx="4635360" cy="35557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ranklin Gothic Medium"/>
              </a:rPr>
              <a:t>USE YOUR EYES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EY WILL GIVE YOU ALMOST ALL THE INFORMATION YOU NEED IN ORDER TO DETERMINE HOW THE VICTIM IS D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GATHER INFORMATION AS YOU APPROACH THE VICTIM</a:t>
            </a: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ny signs of traum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lee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alking, grimacing or yell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reathing fast? Sl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Is the person mov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CAN THEY BREAT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re they talking normally?  If so there is no airway ob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Choking or facial bleeding? Check for an airway obstr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High pitched noises (stridor): Has airway swelling or partial obstruction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Georgia"/>
              </a:rPr>
              <a:t>BL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Georgia"/>
              </a:rPr>
              <a:t>Look over the whole body and make sure there is no significant blood lo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549360" y="2921040"/>
            <a:ext cx="3556080" cy="2286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5889600" y="2473200"/>
            <a:ext cx="2832120" cy="2870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3"/>
          <a:stretch/>
        </p:blipFill>
        <p:spPr>
          <a:xfrm>
            <a:off x="3151080" y="39085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COLLISION FACTORS ASSOCIATED WITH HIGHER RATES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ront or near side motor vehicle c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brupt de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Crushing of the veh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Intrusion greater than 15 cm or six in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ANY NEUROLOGIC CHANG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nswering questions and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Normal? Mentation is n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Confused or obtunded? Lack of oxygen? Blood l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Moving all the extrem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Yes? No paraly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No? Possible spinal injury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  <a:ea typeface="ＭＳ Ｐゴシック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BDOMINAL PAIN AND TENDERNESS MAKE ABDOMINAL INJURIES MORE 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EXAM HOWEVER IS NOT VERY SENSI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CCURACY OF ABDOMINAL TENDERNESS AND PAIN IS ONLY 55-65 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SEATBELT SIGN  OR ECCHYMOSIS OVER THE ABDOMINAL WALL CORRELATES WITH ABDOMINAL INJURIES IN ONE-THIRD OF THE CASES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ATBELT 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2388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DISTRACTING OR CLOSED HEAD INJURIES MAY PREVENT PATIENTS FROM HAVING FINDING ON THE ABDOMINAL EX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28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BRADYCARDIA IS SOMETIMES SEEN WITH ABDOMINAL INJURIES DUE TO AN ABDOMINAL VAGAL RESPONSE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ES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28480" y="1706400"/>
            <a:ext cx="8164800" cy="4572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LOOK AT THE WHOLE 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t is easy to fixate on one part and not see the 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Medium"/>
              </a:rPr>
              <a:t>CONGRATULATION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YOU JUST COMPLETED THE PRIMARY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7086600" y="2895480"/>
            <a:ext cx="1752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ccd1b9"/>
                </a:solidFill>
                <a:latin typeface="Franklin Gothic Medium"/>
              </a:rPr>
              <a:t>RECOGNIZING RESPIRATORY DIST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AIRWAY ASSESS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RESPIRATORY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2716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spcBef>
                <a:spcPts val="499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</a:rPr>
              <a:t>Conditions that result in a compromise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4572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Arial"/>
              <a:buAutoNum type="arabicPeriod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ility to get oxygen (inh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4572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Arial"/>
              <a:buAutoNum type="arabicPeriod"/>
              <a:tabLst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bility to get rid of carbon dioxide (exh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27160">
              <a:spcBef>
                <a:spcPts val="451"/>
              </a:spcBef>
              <a:tabLst>
                <a:tab algn="l" pos="0"/>
                <a:tab algn="l" pos="271440"/>
                <a:tab algn="l" pos="728640"/>
                <a:tab algn="l" pos="1185840"/>
                <a:tab algn="l" pos="1643040"/>
                <a:tab algn="l" pos="2100240"/>
                <a:tab algn="l" pos="2557440"/>
                <a:tab algn="l" pos="3014640"/>
                <a:tab algn="l" pos="3471840"/>
                <a:tab algn="l" pos="3929040"/>
                <a:tab algn="l" pos="4386240"/>
                <a:tab algn="l" pos="4843440"/>
                <a:tab algn="l" pos="5300640"/>
                <a:tab algn="l" pos="5757840"/>
                <a:tab algn="l" pos="6215040"/>
                <a:tab algn="l" pos="6672240"/>
                <a:tab algn="l" pos="7129440"/>
                <a:tab algn="l" pos="7586640"/>
                <a:tab algn="l" pos="8043840"/>
                <a:tab algn="l" pos="8501040"/>
                <a:tab algn="l" pos="8958240"/>
                <a:tab algn="l" pos="9415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RESPIRATORY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2080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ONDITIONS THAT RESULT IN A COMPROMISE IN BREA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</a:rPr>
              <a:t>Ob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Facial trauma and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h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</a:rPr>
              <a:t>Chest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ontus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Rib fra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Pneumo/hemo/tension: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380880" y="1719360"/>
            <a:ext cx="8407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RISK FACTORS FOR OCCUPANTS IN MVC</a:t>
            </a:r>
            <a:r>
              <a:rPr b="0" lang="ja-JP" sz="3600" spc="-1" strike="noStrike">
                <a:solidFill>
                  <a:srgbClr val="534949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534949"/>
                </a:solidFill>
                <a:latin typeface="Franklin Gothic Medium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Age greater than or equal to six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Front seat occup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Not wearing a seat b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UNT TRAUMA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SIGNS OF BREATHING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hange in brea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499"/>
              </a:spcBef>
              <a:buClr>
                <a:srgbClr val="c66951"/>
              </a:buClr>
              <a:buFont typeface="Georgia"/>
              <a:buAutoNum type="arabicPeriod"/>
              <a:tabLst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Signs of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SIGNS OF BREATHING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Franklin Gothic Medium"/>
              </a:rPr>
              <a:t>BREATHING CHA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Arial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Arial"/>
              </a:rPr>
              <a:t>Can result in an increase in respiratory rate because the person is trying to compensate for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Arial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Arial"/>
              </a:rPr>
              <a:t>Or a decrease in respiratory drive and the breathing slows down because the person is tired or losing consciousness</a:t>
            </a:r>
            <a:r>
              <a:rPr b="0" lang="en-US" sz="2000" spc="-1" strike="noStrike">
                <a:solidFill>
                  <a:srgbClr val="53494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SIGNS OF BREATHING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534949"/>
                </a:solidFill>
                <a:latin typeface="Franklin Gothic Medium"/>
              </a:rPr>
              <a:t>SIGNS OF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</a:rPr>
              <a:t>Airway obstruct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Facial or neck swelling or blee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</a:rPr>
              <a:t>Chest wall injur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Bruising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Stabb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GS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Blee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71800">
              <a:lnSpc>
                <a:spcPct val="10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534949"/>
                </a:solidFill>
                <a:latin typeface="Arial"/>
                <a:ea typeface="ＭＳ Ｐゴシック"/>
              </a:rPr>
              <a:t>Crepitus: air in the skin that leaks out from the lungs.  Feels crunch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34949"/>
                </a:solidFill>
                <a:latin typeface="Georgia"/>
              </a:rPr>
              <a:t>AIRWAY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IRWA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Georgia"/>
              </a:rPr>
              <a:t>DETERMINE IF AND THE EXTENT OF THE BREATHING ISS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MI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Bleeding but able to breath and manage the secre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Bruise but no airway comprom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MODERATE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Trauma that affects breathing but no signs of dist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SEVERE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Airway compromise and di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IF YOU DON’T ACT THEY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  <a:ea typeface="ＭＳ Ｐゴシック"/>
              </a:rPr>
              <a:t>MAY</a:t>
            </a:r>
            <a:r>
              <a:rPr b="1" lang="en-US" sz="2400" spc="-1" strike="noStrike">
                <a:solidFill>
                  <a:srgbClr val="534949"/>
                </a:solidFill>
                <a:latin typeface="Georgia"/>
                <a:ea typeface="ＭＳ Ｐゴシック"/>
              </a:rPr>
              <a:t> D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179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IRWA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534949"/>
                </a:solidFill>
                <a:latin typeface="Georgia"/>
              </a:rPr>
              <a:t>MINOR AND MODERATE DI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Victim should be able to breath on their own without significant difficul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They should have a normal neurologic ex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Sit the person up if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Georgia"/>
              </a:rPr>
              <a:t>Control the bleeding if any</a:t>
            </a:r>
            <a:r>
              <a:rPr b="0" lang="en-US" sz="2000" spc="-1" strike="noStrike">
                <a:solidFill>
                  <a:srgbClr val="534949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IRWA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34949"/>
                </a:solidFill>
                <a:latin typeface="Georgia"/>
              </a:rPr>
              <a:t>SEVERE DI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DO SOMETHING OR THEY MAY D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558720" y="2495520"/>
            <a:ext cx="74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d1b9"/>
                </a:solidFill>
                <a:latin typeface="Franklin Gothic Medium"/>
              </a:rPr>
              <a:t>KING TU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d1b9"/>
                </a:solidFill>
                <a:latin typeface="Franklin Gothic Medium"/>
              </a:rPr>
              <a:t>NEEDLE TRACHEOS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Font typeface="Franklin Gothic Medium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cd1b9"/>
                </a:solidFill>
                <a:latin typeface="Franklin Gothic Medium"/>
              </a:rPr>
              <a:t>NEEDLE THORACOS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488880" y="1263600"/>
            <a:ext cx="63248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 rot="21540000">
            <a:off x="1295280" y="2554200"/>
            <a:ext cx="67406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AIRWAY PROCED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36836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534949"/>
                </a:solidFill>
                <a:latin typeface="Georgia"/>
              </a:rPr>
              <a:t>KING TU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38088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4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KING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51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9313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301680" y="1625760"/>
            <a:ext cx="3187800" cy="25524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2"/>
          <a:stretch/>
        </p:blipFill>
        <p:spPr>
          <a:xfrm>
            <a:off x="5954760" y="3511440"/>
            <a:ext cx="3022560" cy="267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23:12:33Z</dcterms:created>
  <dc:creator>GHPROS</dc:creator>
  <dc:description/>
  <dc:language>en-US</dc:language>
  <cp:lastModifiedBy>Windows User</cp:lastModifiedBy>
  <dcterms:modified xsi:type="dcterms:W3CDTF">2018-01-18T14:47:19Z</dcterms:modified>
  <cp:revision>70</cp:revision>
  <dc:subject/>
  <dc:title>BLUNT THORACIC AND ABDOMINAL TRAUMA</dc:title>
</cp:coreProperties>
</file>